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wmf" ContentType="image/x-wmf"/>
  <Override PartName="/ppt/media/image3.wmf" ContentType="image/x-wmf"/>
  <Override PartName="/ppt/media/image12.wmf" ContentType="image/x-wmf"/>
  <Override PartName="/ppt/media/image8.png" ContentType="image/png"/>
  <Override PartName="/ppt/media/image14.jpeg" ContentType="image/jpeg"/>
  <Override PartName="/ppt/media/image5.gif" ContentType="image/gif"/>
  <Override PartName="/ppt/media/image9.png" ContentType="image/png"/>
  <Override PartName="/ppt/media/image13.wmf" ContentType="image/x-wmf"/>
  <Override PartName="/ppt/media/image6.wmf" ContentType="image/x-wmf"/>
  <Override PartName="/ppt/media/image11.wmf" ContentType="image/x-wmf"/>
  <Override PartName="/ppt/media/image4.gif" ContentType="image/gif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8DE2-F638-4D4D-A0E2-66EDD4FA65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F2F-89F8-418E-9AE2-0CE8499BA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E27-1B17-4110-BF67-DC0E5224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C9C-AB14-40B3-A3AF-5D766E64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F5E-4646-4C0B-9700-134F9C03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D49-B0BF-4507-A514-47453742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FACB-722C-48C9-B2C0-1DB15A54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F99D-8E0C-49A6-9437-11387AE0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0F25-3782-465B-94CB-DA19B334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A2B4-6784-4162-A3F7-E6A4D8F6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F4C6-9721-42EF-AA9C-F6123921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53DD-8A34-43B5-BBC0-4207EA46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E03A-39AF-4410-9105-619AE8B4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9C1-FD09-4A8B-96D1-C99553C0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1F18-5DF2-4005-9904-BCB0921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2EC4-E4CD-4472-8612-2986F4A7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BE0F-1856-489D-9FBB-2D7A1266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4E19-E4BF-48CD-A4A8-3469C522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33B9-21FD-44EB-B7D9-361342FF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49D7-6031-48A6-8214-D7AB97D8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BC54-4150-4706-AF4E-8EC46696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89B7-ACBA-4E2C-A7AF-0DCDEC9B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9BA1-D744-48BB-9653-5D8322EF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539E-202B-4343-A616-339D1B17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335-716F-4821-8B47-986CF001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EC57-6A33-45B9-8EAA-746A06EA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B6F6-E153-49A5-AD63-6954B06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8C30-197C-4FED-B239-20BD0DE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7ADB-1ADD-4BA0-86B0-F385EF1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05E61-55F9-4CAD-B4D0-A47E3102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1B26-F6AA-4861-BEE4-A611E360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7852-37E1-4571-9E1C-7977B0B0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47B-F537-4B41-A020-50C174D9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0E0-2FBD-485F-960D-867C7C33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669-B930-4F9E-A1F7-E58F2A07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659-E94C-442B-A3A3-35030BE6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887-AA4A-4CA0-9948-56297BDC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152-9E99-4D0E-84A8-0EEBC38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97C9-485E-4014-8AD6-C524261657B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2A63-2149-45CD-98F0-EC568AF36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47CF-D9CA-4CB9-B85A-4C242C3CD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85480" y="15001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haroni"/>
              </a:rPr>
              <a:t>Лікарі здоров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Aharoni"/>
              </a:rPr>
              <a:t>’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haroni"/>
              </a:rPr>
              <a:t>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4005360"/>
            <a:ext cx="6050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ідготува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читель початкових кла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ківської ЗОШ І-ІІ ст.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80920" y="2257560"/>
            <a:ext cx="526428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іп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пс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р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азована в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у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іві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іке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0640" indent="26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куруд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68360" y="263700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ОРИСНІ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11280" y="4508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ШКІДЛИ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3132000" y="2421000"/>
            <a:ext cx="2448000" cy="790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2987640" y="3213000"/>
            <a:ext cx="244944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3203640" y="3284640"/>
            <a:ext cx="237636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3059280" y="3284640"/>
            <a:ext cx="2447640" cy="129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2987640" y="3068640"/>
            <a:ext cx="2448000" cy="266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 flipV="1">
            <a:off x="3059280" y="2707920"/>
            <a:ext cx="2592360" cy="21589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V="1">
            <a:off x="2916360" y="3213000"/>
            <a:ext cx="2592360" cy="18734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2916360" y="4292280"/>
            <a:ext cx="2592360" cy="863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2987640" y="4941720"/>
            <a:ext cx="2592360" cy="144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2987640" y="4941720"/>
            <a:ext cx="2592360" cy="4320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0" descr="J0232053"/>
          <p:cNvPicPr/>
          <p:nvPr/>
        </p:nvPicPr>
        <p:blipFill>
          <a:blip r:embed="rId1"/>
          <a:stretch/>
        </p:blipFill>
        <p:spPr>
          <a:xfrm>
            <a:off x="0" y="260280"/>
            <a:ext cx="1593720" cy="2051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1" descr="J0232101"/>
          <p:cNvPicPr/>
          <p:nvPr/>
        </p:nvPicPr>
        <p:blipFill>
          <a:blip r:embed="rId2"/>
          <a:stretch/>
        </p:blipFill>
        <p:spPr>
          <a:xfrm>
            <a:off x="7740720" y="549360"/>
            <a:ext cx="1766880" cy="2300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63640" y="260280"/>
            <a:ext cx="59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дукти харчування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уваю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029120" indent="0"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’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ТИЙ ЛІКАР – </a:t>
            </a:r>
            <a:r>
              <a:rPr b="0" lang="ru-RU" sz="4400" spc="-1" strike="noStrike" u="sng">
                <a:solidFill>
                  <a:srgbClr val="ffffb7"/>
                </a:solidFill>
                <a:uFillTx/>
                <a:latin typeface="Arial Black"/>
              </a:rPr>
              <a:t>РУ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2276280"/>
            <a:ext cx="8459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02080" indent="-3502080">
              <a:spcBef>
                <a:spcPts val="11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 здоровому тілі – здоровий дух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j0231523"/>
          <p:cNvPicPr/>
          <p:nvPr/>
        </p:nvPicPr>
        <p:blipFill>
          <a:blip r:embed="rId1"/>
          <a:stretch/>
        </p:blipFill>
        <p:spPr>
          <a:xfrm>
            <a:off x="6227640" y="4365720"/>
            <a:ext cx="2648160" cy="217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J0232067"/>
          <p:cNvPicPr/>
          <p:nvPr/>
        </p:nvPicPr>
        <p:blipFill>
          <a:blip r:embed="rId2"/>
          <a:stretch/>
        </p:blipFill>
        <p:spPr>
          <a:xfrm>
            <a:off x="1332000" y="3860640"/>
            <a:ext cx="1815840" cy="2413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88920" y="2508120"/>
            <a:ext cx="6462720" cy="29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39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Жив на світі хлопчик Пашк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239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а такий він був неряшка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239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уші міг не мить роками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239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давав їх чистить мамі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239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ило в руки він не брав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239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х, яким брудним він став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Рисунок1_0"/>
          <p:cNvPicPr/>
          <p:nvPr/>
        </p:nvPicPr>
        <p:blipFill>
          <a:blip r:embed="rId1"/>
          <a:stretch/>
        </p:blipFill>
        <p:spPr>
          <a:xfrm>
            <a:off x="3276720" y="1878120"/>
            <a:ext cx="5184720" cy="4979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4000" y="260280"/>
            <a:ext cx="813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Шостий лікар 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обиста гігіє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71640" y="3789360"/>
            <a:ext cx="758664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70000"/>
              </a:lnSpc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АРЯД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0"/>
            <a:ext cx="864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им займались в одному з мультфільмів мартишка, слоненя, папуга та удав? Цього ніколи не робили ні Баба Яга, ні Кощій безсмертний. Щоб не стати такими, як вони, це слід робити щора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977760" y="3207960"/>
            <a:ext cx="7586640" cy="26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іТАМіН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33336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і речовини , як повітря необхідні людині, тому в перекладі їхня назва означає «житт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42920" y="3499920"/>
            <a:ext cx="75866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ctr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ІАТ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47628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Якщо ви все ж таки захворіли, вам доведеться звернутися до лікаря, але як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11280" y="242100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БУДЬТЕ ЗДОРОВІ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AN01150_"/>
          <p:cNvPicPr/>
          <p:nvPr/>
        </p:nvPicPr>
        <p:blipFill>
          <a:blip r:embed="rId1"/>
          <a:stretch/>
        </p:blipFill>
        <p:spPr>
          <a:xfrm rot="19168200">
            <a:off x="2916000" y="3049560"/>
            <a:ext cx="3389040" cy="3808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476280"/>
            <a:ext cx="860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ка тварина, доживаючи до 300 років, зовсім не старіє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одного  явища старіння в її організмі не відбуває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5"/>
          <p:cNvSpPr txBox="1"/>
          <p:nvPr/>
        </p:nvSpPr>
        <p:spPr>
          <a:xfrm>
            <a:off x="2071800" y="25002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b7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'Я</a:t>
            </a:r>
            <a:endParaRPr b="0" lang="en-US" sz="1800" spc="1" strike="noStrike">
              <a:ln w="0">
                <a:noFill/>
              </a:ln>
              <a:solidFill>
                <a:srgbClr val="ffffb7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6" descr="BD07202_"/>
          <p:cNvPicPr/>
          <p:nvPr/>
        </p:nvPicPr>
        <p:blipFill>
          <a:blip r:embed="rId1"/>
          <a:stretch/>
        </p:blipFill>
        <p:spPr>
          <a:xfrm>
            <a:off x="5214960" y="3929040"/>
            <a:ext cx="2601720" cy="2219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BD13764_"/>
          <p:cNvPicPr/>
          <p:nvPr/>
        </p:nvPicPr>
        <p:blipFill>
          <a:blip r:embed="rId2"/>
          <a:stretch/>
        </p:blipFill>
        <p:spPr>
          <a:xfrm>
            <a:off x="357120" y="3643200"/>
            <a:ext cx="2214720" cy="2559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260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ким багатством повинна володіти молода людина, щоб дожити до старості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9200" y="1837800"/>
            <a:ext cx="88473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об не виглядати блідим, щоб шкіра була вкрита легким загаром, потріб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більше їсти вирощених на сонці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1000080" y="4643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іше бувати на сонц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1357200" y="5643720"/>
            <a:ext cx="46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руктів та овоч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3" descr="AG00433_"/>
          <p:cNvPicPr/>
          <p:nvPr/>
        </p:nvPicPr>
        <p:blipFill>
          <a:blip r:embed="rId1"/>
          <a:stretch/>
        </p:blipFill>
        <p:spPr>
          <a:xfrm>
            <a:off x="6227640" y="0"/>
            <a:ext cx="1640160" cy="164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4" descr="FD00964_"/>
          <p:cNvPicPr/>
          <p:nvPr/>
        </p:nvPicPr>
        <p:blipFill>
          <a:blip r:embed="rId2"/>
          <a:stretch/>
        </p:blipFill>
        <p:spPr>
          <a:xfrm>
            <a:off x="6072120" y="3286080"/>
            <a:ext cx="2324160" cy="2106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0"/>
            <a:ext cx="61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ерший лікар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83664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СО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54080" y="2373120"/>
            <a:ext cx="739152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углекислий га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зо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исен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24000" y="4581360"/>
            <a:ext cx="820728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Arial"/>
              </a:rPr>
              <a:t>Без якого газу ми не можемо жи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1835280" y="5516640"/>
            <a:ext cx="25225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b7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сень</a:t>
            </a:r>
            <a:endParaRPr b="0" lang="en-US" sz="1800" spc="1" strike="noStrike">
              <a:ln w="0">
                <a:noFill/>
              </a:ln>
              <a:solidFill>
                <a:srgbClr val="ffffb7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ругий лікар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83664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fef9"/>
                </a:solidFill>
                <a:latin typeface="Arial"/>
              </a:rPr>
              <a:t>СВІЖЕ ПОВІТ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000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калювання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овітрюванням кімна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Частіше бувати на свіжому повітр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Не курити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2602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є здор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трібно укріпля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92000" y="2060640"/>
            <a:ext cx="688644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7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Я біжу струмком із кран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27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ю ключем із-під землі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27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качаю в океан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27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летенські- кораблі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 flipV="1" rot="10800000">
            <a:off x="1116000" y="97992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126ef"/>
                </a:solidFill>
                <a:uFillTx/>
                <a:latin typeface="Arial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nature52"/>
          <p:cNvPicPr/>
          <p:nvPr/>
        </p:nvPicPr>
        <p:blipFill>
          <a:blip r:embed="rId1"/>
          <a:stretch/>
        </p:blipFill>
        <p:spPr>
          <a:xfrm>
            <a:off x="6929280" y="4481640"/>
            <a:ext cx="2214720" cy="237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nature52"/>
          <p:cNvPicPr/>
          <p:nvPr/>
        </p:nvPicPr>
        <p:blipFill>
          <a:blip r:embed="rId2"/>
          <a:stretch/>
        </p:blipFill>
        <p:spPr>
          <a:xfrm>
            <a:off x="0" y="2205000"/>
            <a:ext cx="2143080" cy="237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nature52"/>
          <p:cNvPicPr/>
          <p:nvPr/>
        </p:nvPicPr>
        <p:blipFill>
          <a:blip r:embed="rId3"/>
          <a:stretch/>
        </p:blipFill>
        <p:spPr>
          <a:xfrm>
            <a:off x="7380360" y="0"/>
            <a:ext cx="2033640" cy="237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ретій лікар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10920" y="5589720"/>
            <a:ext cx="5808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ЩОДЕННО СЛІД ПРИЙМАТ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ВОДНІ ПРОЦЕДУР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 flipV="1" rot="10800000">
            <a:off x="1828800" y="436536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И ЧИСТУ ВОДУ ТА НАТУРАЛЬНІ С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 rot="264600">
            <a:off x="468360" y="2276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ід час закалювання об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ково вводити водні процеду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 rot="301200">
            <a:off x="1547280" y="62064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Вживати продукти, які вміщують воду: овочі, фрукти, яг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2124000" y="649116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 rot="21373800">
            <a:off x="339840" y="3572640"/>
            <a:ext cx="829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Раз на тиждень умиватися і митися в душ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буде міцним, якщ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3960" y="244080"/>
            <a:ext cx="838512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ЧЕТВЕРТИЙ ЛІКАР– </a:t>
            </a:r>
            <a:r>
              <a:rPr b="0" lang="en-US" sz="4000" spc="-1" strike="noStrike" u="sng">
                <a:solidFill>
                  <a:srgbClr val="ffffb7"/>
                </a:solidFill>
                <a:uFillTx/>
                <a:latin typeface="Times New Roman"/>
              </a:rPr>
              <a:t>ПРАВИЛЬНЕ ХАРЧУВАННЯ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000" y="1916280"/>
            <a:ext cx="867564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ffffff"/>
                </a:solidFill>
                <a:uFillTx/>
                <a:latin typeface="Arial"/>
              </a:rPr>
              <a:t>Як часто слід їсти впродовж дня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-2 рази, але по бага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-4 рази за день невеликими порція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щогоди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77760" y="4060800"/>
            <a:ext cx="641520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ffffff"/>
                </a:solidFill>
                <a:uFillTx/>
                <a:latin typeface="Arial"/>
              </a:rPr>
              <a:t>коли треба їсти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и захоче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визначений ч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и є ч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71636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or"/>
          <p:cNvSpPr/>
          <p:nvPr/>
        </p:nvSpPr>
        <p:spPr>
          <a:xfrm rot="10800000">
            <a:off x="323640" y="2637000"/>
            <a:ext cx="371160" cy="225360"/>
          </a:xfrm>
          <a:custGeom>
            <a:avLst/>
            <a:gdLst>
              <a:gd name="textAreaLeft" fmla="*/ 45720 w 371160"/>
              <a:gd name="textAreaRight" fmla="*/ 230400 w 371160"/>
              <a:gd name="textAreaTop" fmla="*/ 116640 h 225360"/>
              <a:gd name="textAreaBottom" fmla="*/ 210240 h 225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oor"/>
          <p:cNvSpPr/>
          <p:nvPr/>
        </p:nvSpPr>
        <p:spPr>
          <a:xfrm rot="10800000">
            <a:off x="826920" y="4797360"/>
            <a:ext cx="371520" cy="225360"/>
          </a:xfrm>
          <a:custGeom>
            <a:avLst/>
            <a:gdLst>
              <a:gd name="textAreaLeft" fmla="*/ 45720 w 371520"/>
              <a:gd name="textAreaRight" fmla="*/ 230760 w 371520"/>
              <a:gd name="textAreaTop" fmla="*/ 116640 h 225360"/>
              <a:gd name="textAreaBottom" fmla="*/ 210240 h 225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3" descr="J0232053"/>
          <p:cNvPicPr/>
          <p:nvPr/>
        </p:nvPicPr>
        <p:blipFill>
          <a:blip r:embed="rId1"/>
          <a:stretch/>
        </p:blipFill>
        <p:spPr>
          <a:xfrm>
            <a:off x="5500800" y="2857680"/>
            <a:ext cx="2828880" cy="3643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8:04:26Z</dcterms:created>
  <dc:creator>Танюшка</dc:creator>
  <dc:description/>
  <dc:language>en-US</dc:language>
  <cp:lastModifiedBy>Admin</cp:lastModifiedBy>
  <dcterms:modified xsi:type="dcterms:W3CDTF">2013-09-04T15:31:15Z</dcterms:modified>
  <cp:revision>27</cp:revision>
  <dc:subject/>
  <dc:title>НА ПРИЕМЕ У ДОКТОРОВ ЗДОРОВЬЯ</dc:title>
</cp:coreProperties>
</file>