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689-869B-4AA6-96C5-E08D4B52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501-C77E-46AD-8E74-6D7993B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7DD-76A1-4391-B28D-0B881E70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FD1-A69E-4575-BD99-34881143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5B11-26E5-4BC9-8D74-0A638BC2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E66B-4FFE-4DB6-AAD6-C81595E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AF14-D37A-4413-AFDA-E731298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4C1-6B4F-4804-B307-AD7245C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5B6-2642-4647-8B53-DA335B7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EDC-A297-4707-87F6-49063985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0859-6845-40CA-B6F3-6ACE2103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018-3863-43A1-8CE6-774F844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433-43D6-4418-9CD5-C70977F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4DB5-E958-4190-929D-9183873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50BF-EE05-4737-90D2-E41A8CCA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551-5E00-48D8-BB82-43F16EAC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F704-D070-47E5-81CA-7C39130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37F-13C8-4233-B71F-F66D6654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60E-C744-46D6-BD97-DBDEF53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D8C-2DCF-4C56-8B4A-7AA47D0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DE2-5292-4D85-A5E0-73B76CB5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F0D-C72D-40A4-A066-04A0FDF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B4D-DB25-48C3-A4C7-7DE4C6A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F29-85B8-4E0F-899A-BDC733D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D6D6-CB7E-4646-9C77-CF81FF0FB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4A5-0D58-4392-852C-4CCF8329F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69840" y="580500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96360" y="422100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40720" y="213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12360" y="3284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99000" y="625320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04360" y="558972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6360" y="41497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9079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0" y="573408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2380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0396E-006 L -0.28351 -0.19547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61925E-006 L -0.9724 -0.04141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-0.05482 L -1.075 0.64816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61092E-006 L -0.79914 -0.06408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99000" y="630936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2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3 =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 х 4 =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5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6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7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8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 х 9 =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5373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9000" y="6324480"/>
            <a:ext cx="54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34:44Z</dcterms:modified>
  <cp:revision>6</cp:revision>
  <dc:subject/>
  <dc:title>Тренажер </dc:title>
</cp:coreProperties>
</file>