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8AD6-C61F-4181-B71C-BF031624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FC16-E5E4-409E-933A-5CEB1454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D871-127E-4954-AF50-D6FFA2F1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45C0-06CF-409A-8B1D-3D185535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9BEA-787E-40D6-8467-19620A2A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7828-1713-495C-8262-29DA3F77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CC82-9D79-4F54-95AB-51B85F7F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11DB-4737-41C0-814E-53D13339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6B9D-7A71-4C53-A0A7-5EABB701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F20F-EAB2-4597-957A-3080E0A0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0986-9349-4CC5-84AB-3D687E38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D0C7-F8CD-48B6-8E99-B587939B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7225-4DF5-470B-8215-51742A9C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0340-5AD3-4738-B11B-65D36F68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C276-189F-4330-9459-637F1AA1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1F80-88B8-4BF2-B435-8BA7BBD9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CCE5-C73A-406D-83F5-3A852CB7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EB39-F2D9-4D3C-B962-BAC1A204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1E48-1F69-482C-8C32-5E1734F6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4953-4D68-40F8-8D53-735D6209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018-B143-4F07-A9CF-BA22FA14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034-AA33-49E6-B317-0FE565C8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BFC-FD89-4FA9-B150-25D79B91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2E8-24AD-4247-AC7A-944221C5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C751-2373-4B08-BD81-082B7B3742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F1EF-9489-4406-9690-AA793B7809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b7"/>
                </a:solidFill>
                <a:latin typeface="Arial Black"/>
              </a:rPr>
              <a:t>Тренажер 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16000" y="256536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Вивчаємо таблицю множення числа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5229360"/>
            <a:ext cx="648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Дружно всі читайте</a:t>
            </a:r>
            <a:br>
              <a:rPr sz="4400"/>
            </a:b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і відповідайт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338472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2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3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4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5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612360" y="2060640"/>
            <a:ext cx="143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325080" y="537372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540720" y="4149720"/>
            <a:ext cx="13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612360" y="3068640"/>
            <a:ext cx="12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84720" y="2205000"/>
            <a:ext cx="3384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6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7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8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9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06064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56720" y="321300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56720" y="443700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56720" y="575928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6276960"/>
            <a:ext cx="62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12 0.00393 L -0.75989 -0.01713 E">
                                      <p:cBhvr>
                                        <p:cTn id="2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31 -0.00255 L -0.76771 -0.01297 E">
                                      <p:cBhvr>
                                        <p:cTn id="2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2 0.01828 L -0.75208 -0.00278 E">
                                      <p:cBhvr>
                                        <p:cTn id="3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-0.74809 -0.01713 E">
                                      <p:cBhvr>
                                        <p:cTn id="34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44444E-006 L -0.34635 0.01435 E">
                                      <p:cBhvr>
                                        <p:cTn id="3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2222E-006 L -0.34635 -0.00648 E">
                                      <p:cBhvr>
                                        <p:cTn id="4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3333E-006 L -0.36215 -0.00648 E">
                                      <p:cBhvr>
                                        <p:cTn id="4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6215 -0.0419 E">
                                      <p:cBhvr>
                                        <p:cTn id="50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Хто перший?!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9325080" y="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9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72720" y="5589720"/>
            <a:ext cx="12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0" y="404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2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04360" y="522936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468000" y="47628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8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72720" y="530064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325080" y="1268280"/>
            <a:ext cx="23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3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117080" y="3789360"/>
            <a:ext cx="16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0" y="1413000"/>
            <a:ext cx="24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7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397080" y="292428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2000" y="206064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4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76000" y="4149720"/>
            <a:ext cx="144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96360" y="249228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6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72720" y="357336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0" y="26028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5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468000" y="587700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8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22560" y="6276960"/>
            <a:ext cx="61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99491E-006 L -0.40156 0.79089 E">
                                      <p:cBhvr>
                                        <p:cTn id="5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67962E-006 L -0.24983 -0.02359 E">
                                      <p:cBhvr>
                                        <p:cTn id="6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8.09623E-007 L -1.00399 0.1758 E">
                                      <p:cBhvr>
                                        <p:cTn id="6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63868E-006 L -0.89375 -0.53621 E">
                                      <p:cBhvr>
                                        <p:cTn id="68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7513E-007 L -0.4132 0.54314 E">
                                      <p:cBhvr>
                                        <p:cTn id="7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6972E-006 L -0.2441 -0.16401 E">
                                      <p:cBhvr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6.52325E-007 L -1.02483 0.2179 E">
                                      <p:cBhvr>
                                        <p:cTn id="8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64238E-006 L -0.85834 -0.15846 E">
                                      <p:cBhvr>
                                        <p:cTn id="84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55702E-007 L -0.38177 0.25977 E">
                                      <p:cBhvr>
                                        <p:cTn id="8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5663E-006 L -0.17136 0.02105 E">
                                      <p:cBhvr>
                                        <p:cTn id="9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55216E-006 L -1.01962 0.25977 E">
                                      <p:cBhvr>
                                        <p:cTn id="9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61925E-006 L -0.92916 -0.06246 E">
                                      <p:cBhvr>
                                        <p:cTn id="10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8314E-006 L -0.40938 -0.06547 E">
                                      <p:cBhvr>
                                        <p:cTn id="104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78973E-006 L -0.2441 -0.223 E">
                                      <p:cBhvr>
                                        <p:cTn id="108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6.13E-007 L -1.00799 0.71108 E">
                                      <p:cBhvr>
                                        <p:cTn id="112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73514E-006 L -0.77952 -0.13741 E">
                                      <p:cBhvr>
                                        <p:cTn id="11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Загубилось числ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484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2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2708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3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3933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4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5157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5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1484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6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03640" y="2781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7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4005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8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5229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9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1557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2781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4005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522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557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27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0" y="41497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56360" y="5300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48000" y="6276960"/>
            <a:ext cx="563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Загубилось числ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3933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2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34136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3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5229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4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5157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5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263700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6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2708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7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00" y="134136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8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4005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9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1413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2708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79640" y="4076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56000" y="5300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24360" y="1413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2781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16720" y="4005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88000" y="522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02000" y="6276960"/>
            <a:ext cx="574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0T13:14:01Z</dcterms:created>
  <dc:creator>Admin</dc:creator>
  <dc:description/>
  <dc:language>en-US</dc:language>
  <cp:lastModifiedBy>Admin</cp:lastModifiedBy>
  <dcterms:modified xsi:type="dcterms:W3CDTF">2017-02-20T17:08:17Z</dcterms:modified>
  <cp:revision>6</cp:revision>
  <dc:subject/>
  <dc:title>Тренажер </dc:title>
</cp:coreProperties>
</file>