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25E5-83C6-4737-93D6-74E37491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7FA5-8206-4295-8E1C-4EB111FC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B292-B87A-4792-BAB0-2A96E5CD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9A80-3F36-4237-9491-FB8EACCD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FA62-18D5-4AD2-A84F-14B97831B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0471-0141-46C9-B826-CA9C5F07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34E4-A79F-4DA2-BC8D-842DD993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64C4-D414-4368-B254-BF5CCAC2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DEEF-9E26-4C9A-9C73-7C855635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D641-5D72-4F84-AD72-759C0021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8271-C9D9-4F05-A27F-06F878BB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3074-CD18-4449-AE0B-657A98A1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1FAF-1106-43A6-B050-A40E79CF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E845-8683-41B1-ADC8-4264D4A9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7C00-E4D3-4EE5-939B-0EE76DFC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29A4-9F74-4393-93A9-CF7274DD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FF98-208F-48D7-93A4-E8DFA8C0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E07A-5F96-4245-AE40-E0E1DD08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D11E-95E1-44EB-BCCC-E4C0F092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1D85-3053-4927-AB9F-33CD59EB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E810-238D-4B37-88F5-02A97483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1A96-E6DD-41BB-91AB-4ED746EE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EEE3-7AA2-471A-8875-1EE2DEA1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1F61-3FC6-4F26-8962-DF025593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E373-2F5E-45F0-896E-A6EC3DDCF2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B264-C057-488F-85F4-7AA1D0D307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b7"/>
                </a:solidFill>
                <a:latin typeface="Arial Black"/>
              </a:rPr>
              <a:t>Тренажер 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16000" y="256536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Вивчаємо таблицю множення числа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5229360"/>
            <a:ext cx="648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Дружно всі читайте</a:t>
            </a:r>
            <a:br>
              <a:rPr sz="4400"/>
            </a:b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і відповідайт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338472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2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3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4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5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612360" y="2060640"/>
            <a:ext cx="151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325080" y="537372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540720" y="414972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612360" y="3068640"/>
            <a:ext cx="12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84720" y="2205000"/>
            <a:ext cx="33843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6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7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8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9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56720" y="206064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56720" y="321300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56720" y="443700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56720" y="575928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6276960"/>
            <a:ext cx="622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12 0.00393 L -0.75989 -0.01713 E">
                                      <p:cBhvr>
                                        <p:cTn id="2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31 -0.00255 L -0.76771 -0.01297 E">
                                      <p:cBhvr>
                                        <p:cTn id="2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2 0.01828 L -0.75208 -0.00278 E">
                                      <p:cBhvr>
                                        <p:cTn id="3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-0.74809 -0.01713 E">
                                      <p:cBhvr>
                                        <p:cTn id="34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44444E-006 L -0.34635 0.01435 E">
                                      <p:cBhvr>
                                        <p:cTn id="3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2222E-006 L -0.34635 -0.00648 E">
                                      <p:cBhvr>
                                        <p:cTn id="42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33333E-006 L -0.36215 -0.00648 E">
                                      <p:cBhvr>
                                        <p:cTn id="4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36215 -0.0419 E">
                                      <p:cBhvr>
                                        <p:cTn id="50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Хто перший?!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9325080" y="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9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72720" y="5589720"/>
            <a:ext cx="12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0" y="404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2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04360" y="522936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468000" y="47628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8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72720" y="501336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325080" y="1268280"/>
            <a:ext cx="23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3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117080" y="378936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0" y="1413000"/>
            <a:ext cx="24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7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397080" y="292428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2000" y="206064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4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76000" y="4149720"/>
            <a:ext cx="158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96360" y="249228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6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72720" y="357336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0" y="18900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5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0" y="595008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22560" y="6276960"/>
            <a:ext cx="61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99491E-006 L -0.40156 0.79089 E">
                                      <p:cBhvr>
                                        <p:cTn id="56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67962E-006 L -0.24983 -0.02359 E">
                                      <p:cBhvr>
                                        <p:cTn id="6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8.09623E-007 L -1.00399 0.1758 E">
                                      <p:cBhvr>
                                        <p:cTn id="6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63868E-006 L -0.89375 -0.53621 E">
                                      <p:cBhvr>
                                        <p:cTn id="68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47513E-007 L -0.4132 0.54314 E">
                                      <p:cBhvr>
                                        <p:cTn id="72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7696E-006 L -0.2441 -0.12214 E">
                                      <p:cBhvr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6.52325E-007 L -1.02483 0.2179 E">
                                      <p:cBhvr>
                                        <p:cTn id="8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64238E-006 L -0.85834 -0.15846 E">
                                      <p:cBhvr>
                                        <p:cTn id="84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55702E-007 L -0.38177 0.25977 E">
                                      <p:cBhvr>
                                        <p:cTn id="8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45663E-006 L -0.17136 0.02105 E">
                                      <p:cBhvr>
                                        <p:cTn id="9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55216E-006 L -1.01962 0.25977 E">
                                      <p:cBhvr>
                                        <p:cTn id="9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61925E-006 L -0.92916 -0.06246 E">
                                      <p:cBhvr>
                                        <p:cTn id="10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28314E-006 L -0.40938 -0.06547 E">
                                      <p:cBhvr>
                                        <p:cTn id="104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78973E-006 L -0.2441 -0.223 E">
                                      <p:cBhvr>
                                        <p:cTn id="108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6.13E-007 L -1.00799 0.71108 E">
                                      <p:cBhvr>
                                        <p:cTn id="112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73514E-006 L -0.77952 -0.13741 E">
                                      <p:cBhvr>
                                        <p:cTn id="11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Загубилось числ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48428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2 х 2 =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270828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2 х 3 = 6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3933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2 х 4 = 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5157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2 х 5 = 1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148428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2 х 6 = 1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03640" y="2781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2 х 7 = 1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4005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2 х 8 = 1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32360" y="5229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2 х 9 = 1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1557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2781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63640" y="4005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522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557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2764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6000" y="414972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56360" y="5300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48000" y="6276960"/>
            <a:ext cx="563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Загубилось числ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3933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2 х 2 =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34136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2 х 3 = 6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6000" y="5229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2 х 4 = 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5157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2 х 5 = 1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263700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2 х 6 = 1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270828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2 х 7 = 1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00" y="134136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2 х 8 = 1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4005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2 х 9 = 1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1413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19280" y="2708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79640" y="4076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56000" y="5300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24360" y="1413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2781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16720" y="4005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88000" y="522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02000" y="6276960"/>
            <a:ext cx="574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0T13:14:01Z</dcterms:created>
  <dc:creator>Admin</dc:creator>
  <dc:description/>
  <dc:language>en-US</dc:language>
  <cp:lastModifiedBy>Admin</cp:lastModifiedBy>
  <dcterms:modified xsi:type="dcterms:W3CDTF">2017-02-20T17:27:13Z</dcterms:modified>
  <cp:revision>7</cp:revision>
  <dc:subject/>
  <dc:title>Тренажер </dc:title>
</cp:coreProperties>
</file>