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8B7E-01AC-4B5F-8829-02D7212BE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18EE-12BB-4C03-B5A2-9CD23B94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2F2F-6549-4EDC-B98F-CD0AEFD94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7A3A-593E-43FC-89AC-22CEC350B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8B07-910E-4C13-A07A-357072FF6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B026-FF69-4DD6-BA10-31779CC7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A83B3-54FC-4520-A2F3-94A6316D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7659-71BF-46E7-86D8-F52B864E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B35D-2869-4748-8EF8-01FD5C8D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3999-8335-41A6-A791-AE70B7FB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BDDE-7E00-4E66-BFE6-A2FE99AD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D3C4-0CC5-4FD0-8684-23F4E873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A656-B9BA-4731-A576-C4957290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993E-6BA9-4D79-ADC4-67FD21B6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FD7A-625A-4A75-8D0C-0C2551B0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2437-B6BE-4727-A44A-4DCDFB7FA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DBD3C-52FC-4B7A-93D3-02D7805CB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74F3-626B-4EFF-864F-904EAF1C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063D-72B1-4C98-97DA-D949B1F4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427D-F464-46CB-93F6-F82E3526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3FEC-627C-432F-A73D-7AC8A2D1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3641-CF37-44C8-8F15-91622FEC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6941-C92D-49CD-B046-3F655DC1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0033-1B2F-4EA1-A340-B41AEFD8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1899-2FED-48C8-911E-EA72E8AA94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D015-220E-4780-A224-5AD6A05AEB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fffb7"/>
                </a:solidFill>
                <a:latin typeface="Arial Black"/>
              </a:rPr>
              <a:t>Тренажер 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Вивчаємо таблицю множення числа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98560" y="5589360"/>
            <a:ext cx="610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Вчитель початкових класів Марківської ЗОШ І-ІІ ст. №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Биканова Наталія Леоніді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Дружно всі читайте</a:t>
            </a:r>
            <a:br>
              <a:rPr sz="4400"/>
            </a:b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    і відповідайт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338472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х2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х3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х4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х5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612360" y="2060640"/>
            <a:ext cx="6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325080" y="5373720"/>
            <a:ext cx="115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540720" y="4149720"/>
            <a:ext cx="13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612360" y="3068640"/>
            <a:ext cx="143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84720" y="2205000"/>
            <a:ext cx="338436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х6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х7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х8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х9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612360" y="2133720"/>
            <a:ext cx="115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756720" y="3213000"/>
            <a:ext cx="115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756720" y="4437000"/>
            <a:ext cx="115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756720" y="5759280"/>
            <a:ext cx="115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670120" y="6309360"/>
            <a:ext cx="647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Вчитель початкових класів Марківської ЗОШ І-ІІ ст. №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Биканова Наталія Леоніді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312 0.00393 L -0.75989 -0.01713 E">
                                      <p:cBhvr>
                                        <p:cTn id="22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531 -0.00255 L -0.76771 -0.01297 E">
                                      <p:cBhvr>
                                        <p:cTn id="26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2 0.01828 L -0.75208 -0.00278 E">
                                      <p:cBhvr>
                                        <p:cTn id="30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59259E-006 L -0.74809 -0.01713 E">
                                      <p:cBhvr>
                                        <p:cTn id="34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44444E-006 L -0.34635 0.01435 E">
                                      <p:cBhvr>
                                        <p:cTn id="38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22222E-006 L -0.34635 -0.00648 E">
                                      <p:cBhvr>
                                        <p:cTn id="42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33333E-006 L -0.36215 -0.00648 E">
                                      <p:cBhvr>
                                        <p:cTn id="46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59259E-006 L -0.36215 -0.0419 E">
                                      <p:cBhvr>
                                        <p:cTn id="50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Хто перший?!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9325080" y="0"/>
            <a:ext cx="23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х9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972720" y="5589720"/>
            <a:ext cx="125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0" y="404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х2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404360" y="4869000"/>
            <a:ext cx="7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468000" y="47628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х8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972720" y="558972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325080" y="1268280"/>
            <a:ext cx="232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х3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117080" y="3789360"/>
            <a:ext cx="14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0" y="1341360"/>
            <a:ext cx="244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х7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397080" y="2924280"/>
            <a:ext cx="119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252000" y="2060640"/>
            <a:ext cx="23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х4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836360" y="4149720"/>
            <a:ext cx="151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96360" y="249228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х6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972720" y="357336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0" y="260280"/>
            <a:ext cx="26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х5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325080" y="5877000"/>
            <a:ext cx="143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uk-UA" sz="8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30800" y="6238080"/>
            <a:ext cx="5433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Вчитель початкових класів Марківської ЗОШ І-ІІ ст. №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Биканова Наталія Леоніді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99491E-006 L -0.40156 0.79089 E">
                                      <p:cBhvr>
                                        <p:cTn id="56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67962E-006 L -0.24983 -0.02359 E">
                                      <p:cBhvr>
                                        <p:cTn id="60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8.09623E-007 L -1.00399 0.1758 E">
                                      <p:cBhvr>
                                        <p:cTn id="64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46981E-006 L -0.89375 -0.4941 E">
                                      <p:cBhvr>
                                        <p:cTn id="68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47513E-007 L -0.4132 0.54314 E">
                                      <p:cBhvr>
                                        <p:cTn id="72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30396E-006 L -0.23629 -0.19547 E">
                                      <p:cBhvr>
                                        <p:cTn id="76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6.52325E-007 L -1.02483 0.2179 E">
                                      <p:cBhvr>
                                        <p:cTn id="80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64238E-006 L -0.85834 -0.15846 E">
                                      <p:cBhvr>
                                        <p:cTn id="84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55702E-007 L -0.38177 0.25977 E">
                                      <p:cBhvr>
                                        <p:cTn id="88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45663E-006 L -0.17136 0.02105 E">
                                      <p:cBhvr>
                                        <p:cTn id="92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55216E-006 L -1.01962 0.25977 E">
                                      <p:cBhvr>
                                        <p:cTn id="96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61925E-006 L -0.92916 -0.06246 E">
                                      <p:cBhvr>
                                        <p:cTn id="10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28314E-006 L -0.40938 -0.06547 E">
                                      <p:cBhvr>
                                        <p:cTn id="104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78973E-006 L -0.2441 -0.223 E">
                                      <p:cBhvr>
                                        <p:cTn id="108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6.13E-007 L -1.00799 0.71108 E">
                                      <p:cBhvr>
                                        <p:cTn id="112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73514E-006 L -0.77952 -0.13741 E">
                                      <p:cBhvr>
                                        <p:cTn id="116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Загубилось числ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148428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х 2 = 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270828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 х 3 =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393372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 х 4 =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515772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 х 5 =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16360" y="148428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 х 6 =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03640" y="2781360"/>
            <a:ext cx="3816360" cy="107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 х 7 =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4005360"/>
            <a:ext cx="3816360" cy="107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 х 8 =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932360" y="5229360"/>
            <a:ext cx="3816360" cy="107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 х 9 =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92360" y="1557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50920" y="2781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63640" y="4005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3640" y="522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1557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22764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96000" y="414972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56360" y="5300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75160" y="6253200"/>
            <a:ext cx="5433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Вчитель початкових класів Марківської ЗОШ І-ІІ ст. №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Биканова Наталія Леоніді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" dur="2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2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4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0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6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Загубилось числ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4932360" y="393372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 х 2 = 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34136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 х 3 =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42920" y="5229360"/>
            <a:ext cx="3816360" cy="107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 х 4 =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27640" y="530064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 х 5 =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2637000"/>
            <a:ext cx="3816360" cy="107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 х 6 =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43280" y="270828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 х 7 =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8000" y="134136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 х 8 =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4360" y="393372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 х 9 =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03280" y="1413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19280" y="2708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08000" y="4005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11280" y="5300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24360" y="1413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2781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72360" y="4076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16720" y="537372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99000" y="6309360"/>
            <a:ext cx="5433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Вчитель початкових класів Марківської ЗОШ І-ІІ ст. №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Биканова Наталія Леоніді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0T13:14:01Z</dcterms:created>
  <dc:creator>Admin</dc:creator>
  <dc:description/>
  <dc:language>en-US</dc:language>
  <cp:lastModifiedBy>Admin</cp:lastModifiedBy>
  <dcterms:modified xsi:type="dcterms:W3CDTF">2017-02-20T17:32:52Z</dcterms:modified>
  <cp:revision>6</cp:revision>
  <dc:subject/>
  <dc:title>Тренажер </dc:title>
</cp:coreProperties>
</file>