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F1F-F03F-4FED-BE55-D2E2EB0B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E9A-2415-4212-AA48-76D671C8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099-C71A-421D-98E9-E1D8EAA8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1AA-A8DF-466F-B623-EBC3C92E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D674-FC15-442E-813F-83685565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6FB8-699B-4046-9E92-45D52BFC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58FC-9CF8-4EEA-B05D-0473E68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4AC-20B8-45C9-9197-9B886DE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B9F9-3572-4F0F-9744-9172110B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4C8-4CAC-46C1-BA50-2A4F517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B234-E86A-44F5-A084-96F093A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85D-6502-4778-9FEC-BC55DA1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CF9D-51EE-49D7-9AC7-669D443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D6D-6BC8-4EC4-A6C5-7CBBE4A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899F-8639-4B16-A322-282B792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6BA7-89FA-414B-87B8-79D66F3B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96A3-F88C-4F14-8FC5-AB20C31E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A31-0E11-43C7-B26E-71F17AE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AC5-B5B9-4629-AE97-E46905ED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B70-C434-4A91-87CD-E656CD95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1AF-2E2E-4F30-9C70-FCCA2C8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E33-4883-492B-9B22-FB9AB06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10A-84C4-464F-BFCE-78191F8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8B2-0075-43B4-ACAC-02F61B86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E12-469C-4805-AE62-409511896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0CF1-D477-4484-81F5-3243E181D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39840" y="580500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56720" y="2060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85440" y="3284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5229360"/>
            <a:ext cx="15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013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16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34136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36360" y="414972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189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25080" y="5877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96E-006 L -0.2441 -0.1221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61925E-006 L -0.92916 -0.06246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99000" y="632448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40:01Z</dcterms:modified>
  <cp:revision>6</cp:revision>
  <dc:subject/>
  <dc:title>Тренажер </dc:title>
</cp:coreProperties>
</file>