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CC8A8-8AAC-4093-8E49-4EA10ED0F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54A5F-A1CB-42CF-A8B3-57FB7B72F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1ECF0-86D6-47E6-9682-9D11FB338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A6AA2-F178-4D2C-9701-94000C178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CE6C5-2A62-4DA4-B3E7-279C52273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8920C-8009-4205-AAF9-C2198DA67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FCDAA-E824-4AAA-A90C-1F2977AC2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8118F-E053-4A0C-89C9-403FB68C8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3DDB8-6664-4750-AAF1-27535142E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30E0A-7EDB-44B9-AE71-738505744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8855F-1363-4F79-BA81-C8EE8C795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79CE4-7D05-4E2C-A9AA-878DCB291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83BC2-8033-4D76-A9E8-264C94965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0C911-47FB-459C-89DB-787D9C899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E610E-167F-4A7D-9DB5-B3EE5B640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51C85-0824-4EB0-AAC9-1D3B3AA1D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6AD05-4B11-4323-9C1B-B34E45421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D994A-472F-481B-A340-B8F92AEC8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5BECA-12EC-4FBD-9473-DEF4DD4FD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0D90E-C970-4B3B-B55F-FDB5D61D5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C7BF7-DC08-4040-98A5-112B237A6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4B179-39E5-4F40-99C5-42C8C2F19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F7B2C-6122-48D6-B921-42D8911E0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E7CE6-F776-4D57-8868-F10D4EB02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214BB-56AF-4360-B16C-825A22AA16C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390C8-E7D1-46E0-BB76-91ADBC15C0B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8000" spc="-1" strike="noStrike">
                <a:solidFill>
                  <a:srgbClr val="ffffb7"/>
                </a:solidFill>
                <a:latin typeface="Arial Black"/>
              </a:rPr>
              <a:t>Тренажер </a:t>
            </a:r>
            <a:endParaRPr b="1" lang="en-US" sz="8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ffffff"/>
                </a:solidFill>
                <a:latin typeface="Arial"/>
              </a:rPr>
              <a:t>Вивчаємо таблицю множення числа 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769840" y="5805000"/>
            <a:ext cx="6105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Вчитель початкових класів Марківської ЗОШ І-ІІ ст. №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Биканова Наталія Леонідів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1128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b7"/>
                </a:solidFill>
                <a:latin typeface="Arial Black"/>
              </a:rPr>
              <a:t>Дружно всі читайте</a:t>
            </a:r>
            <a:br>
              <a:rPr sz="4400"/>
            </a:br>
            <a:r>
              <a:rPr b="1" lang="uk-UA" sz="4400" spc="-1" strike="noStrike">
                <a:solidFill>
                  <a:srgbClr val="ffffb7"/>
                </a:solidFill>
                <a:latin typeface="Arial Black"/>
              </a:rPr>
              <a:t>    і відповідайте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95280" y="1988640"/>
            <a:ext cx="3384720" cy="39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15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1" lang="uk-UA" sz="6000" spc="-1" strike="noStrike">
                <a:solidFill>
                  <a:srgbClr val="ffffff"/>
                </a:solidFill>
                <a:latin typeface="Arial"/>
              </a:rPr>
              <a:t>х2=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15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1" lang="uk-UA" sz="6000" spc="-1" strike="noStrike">
                <a:solidFill>
                  <a:srgbClr val="ffffff"/>
                </a:solidFill>
                <a:latin typeface="Arial"/>
              </a:rPr>
              <a:t>х3=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15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1" lang="uk-UA" sz="6000" spc="-1" strike="noStrike">
                <a:solidFill>
                  <a:srgbClr val="ffffff"/>
                </a:solidFill>
                <a:latin typeface="Arial"/>
              </a:rPr>
              <a:t>х4=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15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1" lang="uk-UA" sz="6000" spc="-1" strike="noStrike">
                <a:solidFill>
                  <a:srgbClr val="ffffff"/>
                </a:solidFill>
                <a:latin typeface="Arial"/>
              </a:rPr>
              <a:t>х5=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9612360" y="2060640"/>
            <a:ext cx="1224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9325080" y="5373720"/>
            <a:ext cx="1150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9540720" y="4149720"/>
            <a:ext cx="165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24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612360" y="3068640"/>
            <a:ext cx="151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18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284720" y="2205000"/>
            <a:ext cx="3384360" cy="39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15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1" lang="uk-UA" sz="6000" spc="-1" strike="noStrike">
                <a:solidFill>
                  <a:srgbClr val="ffffff"/>
                </a:solidFill>
                <a:latin typeface="Arial"/>
              </a:rPr>
              <a:t>х6=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15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1" lang="uk-UA" sz="6000" spc="-1" strike="noStrike">
                <a:solidFill>
                  <a:srgbClr val="ffffff"/>
                </a:solidFill>
                <a:latin typeface="Arial"/>
              </a:rPr>
              <a:t>х7=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15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1" lang="uk-UA" sz="6000" spc="-1" strike="noStrike">
                <a:solidFill>
                  <a:srgbClr val="ffffff"/>
                </a:solidFill>
                <a:latin typeface="Arial"/>
              </a:rPr>
              <a:t>х8=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15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1" lang="uk-UA" sz="6000" spc="-1" strike="noStrike">
                <a:solidFill>
                  <a:srgbClr val="ffffff"/>
                </a:solidFill>
                <a:latin typeface="Arial"/>
              </a:rPr>
              <a:t>х9=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612360" y="1844640"/>
            <a:ext cx="1150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36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685440" y="3068640"/>
            <a:ext cx="1150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42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9756720" y="4437000"/>
            <a:ext cx="1150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48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9756720" y="5759280"/>
            <a:ext cx="1150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54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575160" y="6238080"/>
            <a:ext cx="5433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Вчитель початкових класів Марківської ЗОШ І-ІІ ст. № 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Биканова Наталія Леонідівн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312 0.00393 L -0.75989 -0.01713 E">
                                      <p:cBhvr>
                                        <p:cTn id="22" dur="2000" fill="hold"/>
                                        <p:tgtEl>
                                          <p:spTgt spid="1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531 -0.00255 L -0.76771 -0.01297 E">
                                      <p:cBhvr>
                                        <p:cTn id="26" dur="2000" fill="hold"/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542 0.01828 L -0.75208 -0.00278 E">
                                      <p:cBhvr>
                                        <p:cTn id="30" dur="2000" fill="hold"/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2.59259E-006 L -0.74809 -0.01713 E">
                                      <p:cBhvr>
                                        <p:cTn id="34" dur="2000" fill="hold"/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4.07407E-006 L -0.34635 0.025 E">
                                      <p:cBhvr>
                                        <p:cTn id="38" dur="2000" fill="hold"/>
                                        <p:tgtEl>
                                          <p:spTgt spid="1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3.7037E-006 L -0.34636 0.01435 E">
                                      <p:cBhvr>
                                        <p:cTn id="42" dur="2000" fill="hold"/>
                                        <p:tgtEl>
                                          <p:spTgt spid="1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3.33333E-006 L -0.36215 -0.00648 E">
                                      <p:cBhvr>
                                        <p:cTn id="46" dur="2000" fill="hold"/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2.59259E-006 L -0.36215 -0.0419 E">
                                      <p:cBhvr>
                                        <p:cTn id="50" dur="2000" fill="hold"/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b7"/>
                </a:solidFill>
                <a:latin typeface="Arial Black"/>
              </a:rPr>
              <a:t>       </a:t>
            </a:r>
            <a:r>
              <a:rPr b="1" lang="uk-UA" sz="4400" spc="-1" strike="noStrike">
                <a:solidFill>
                  <a:srgbClr val="ffffb7"/>
                </a:solidFill>
                <a:latin typeface="Arial Black"/>
              </a:rPr>
              <a:t>Хто перший?!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4" name=""/>
          <p:cNvSpPr/>
          <p:nvPr/>
        </p:nvSpPr>
        <p:spPr>
          <a:xfrm>
            <a:off x="9325080" y="0"/>
            <a:ext cx="230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1" lang="uk-UA" sz="7200" spc="-1" strike="noStrike">
                <a:solidFill>
                  <a:srgbClr val="ffffff"/>
                </a:solidFill>
                <a:latin typeface="Arial"/>
              </a:rPr>
              <a:t>х9=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9972720" y="5589720"/>
            <a:ext cx="1258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54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9144000" y="404640"/>
            <a:ext cx="230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1" lang="uk-UA" sz="7200" spc="-1" strike="noStrike">
                <a:solidFill>
                  <a:srgbClr val="ffffff"/>
                </a:solidFill>
                <a:latin typeface="Arial"/>
              </a:rPr>
              <a:t>х2=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0404360" y="5229360"/>
            <a:ext cx="1440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9468000" y="476280"/>
            <a:ext cx="237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1" lang="uk-UA" sz="7200" spc="-1" strike="noStrike">
                <a:solidFill>
                  <a:srgbClr val="ffffff"/>
                </a:solidFill>
                <a:latin typeface="Arial"/>
              </a:rPr>
              <a:t>х8=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9972720" y="5013360"/>
            <a:ext cx="1295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48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9325080" y="1268280"/>
            <a:ext cx="232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1" lang="uk-UA" sz="7200" spc="-1" strike="noStrike">
                <a:solidFill>
                  <a:srgbClr val="ffffff"/>
                </a:solidFill>
                <a:latin typeface="Arial"/>
              </a:rPr>
              <a:t>х3=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0117080" y="3789360"/>
            <a:ext cx="1584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Arial"/>
              </a:rPr>
              <a:t>18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0" y="1413000"/>
            <a:ext cx="244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1" lang="uk-UA" sz="7200" spc="-1" strike="noStrike">
                <a:solidFill>
                  <a:srgbClr val="ffffff"/>
                </a:solidFill>
                <a:latin typeface="Arial"/>
              </a:rPr>
              <a:t>х7=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9397080" y="2924280"/>
            <a:ext cx="119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42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9252000" y="2060640"/>
            <a:ext cx="2374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1" lang="uk-UA" sz="7200" spc="-1" strike="noStrike">
                <a:solidFill>
                  <a:srgbClr val="ffffff"/>
                </a:solidFill>
                <a:latin typeface="Arial"/>
              </a:rPr>
              <a:t>х4=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0476000" y="4149720"/>
            <a:ext cx="1728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Arial"/>
              </a:rPr>
              <a:t>24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9396360" y="2492280"/>
            <a:ext cx="244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1" lang="uk-UA" sz="7200" spc="-1" strike="noStrike">
                <a:solidFill>
                  <a:srgbClr val="ffffff"/>
                </a:solidFill>
                <a:latin typeface="Arial"/>
              </a:rPr>
              <a:t>х6=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0117080" y="3645000"/>
            <a:ext cx="129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36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9144000" y="189000"/>
            <a:ext cx="266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1" lang="uk-UA" sz="7200" spc="-1" strike="noStrike">
                <a:solidFill>
                  <a:srgbClr val="ffffff"/>
                </a:solidFill>
                <a:latin typeface="Arial"/>
              </a:rPr>
              <a:t>х5=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9468000" y="5950080"/>
            <a:ext cx="1439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uk-UA" sz="80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699000" y="6309360"/>
            <a:ext cx="5433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Вчитель початкових класів Марківської ЗОШ І-ІІ ст. № 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Биканова Наталія Леонідівн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3.99491E-006 L -0.40156 0.79089 E">
                                      <p:cBhvr>
                                        <p:cTn id="56" dur="2000" fill="hold"/>
                                        <p:tgtEl>
                                          <p:spTgt spid="1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4.67962E-006 L -0.24983 -0.02359 E">
                                      <p:cBhvr>
                                        <p:cTn id="60" dur="2000" fill="hold"/>
                                        <p:tgtEl>
                                          <p:spTgt spid="1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8.09623E-007 L -1.00399 0.1758 E">
                                      <p:cBhvr>
                                        <p:cTn id="64" dur="2000" fill="hold"/>
                                        <p:tgtEl>
                                          <p:spTgt spid="1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3.63868E-006 L -0.89375 -0.53621 E">
                                      <p:cBhvr>
                                        <p:cTn id="68" dur="2000" fill="hold"/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2.47513E-007 L -0.4132 0.54314 E">
                                      <p:cBhvr>
                                        <p:cTn id="72" dur="2000" fill="hold"/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1.7696E-006 L -0.2441 -0.12214 E">
                                      <p:cBhvr>
                                        <p:cTn id="76" dur="2000" fill="hold"/>
                                        <p:tgtEl>
                                          <p:spTgt spid="1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6.52325E-007 L -1.02483 0.2179 E">
                                      <p:cBhvr>
                                        <p:cTn id="80" dur="2000" fill="hold"/>
                                        <p:tgtEl>
                                          <p:spTgt spid="1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1.64238E-006 L -0.85834 -0.15846 E">
                                      <p:cBhvr>
                                        <p:cTn id="84" dur="2000" fill="hold"/>
                                        <p:tgtEl>
                                          <p:spTgt spid="1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4.55702E-007 L -0.38177 0.25977 E">
                                      <p:cBhvr>
                                        <p:cTn id="88" dur="2000" fill="hold"/>
                                        <p:tgtEl>
                                          <p:spTgt spid="1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2.45663E-006 L -0.17136 0.02105 E">
                                      <p:cBhvr>
                                        <p:cTn id="92" dur="2000" fill="hold"/>
                                        <p:tgtEl>
                                          <p:spTgt spid="1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1.55216E-006 L -1.01962 0.25977 E">
                                      <p:cBhvr>
                                        <p:cTn id="96" dur="2000" fill="hold"/>
                                        <p:tgtEl>
                                          <p:spTgt spid="1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1124E-006 L -0.91336 -0.05367 E">
                                      <p:cBhvr>
                                        <p:cTn id="100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2.28314E-006 L -0.40938 -0.06547 E">
                                      <p:cBhvr>
                                        <p:cTn id="104" dur="20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2.78973E-006 L -0.2441 -0.223 E">
                                      <p:cBhvr>
                                        <p:cTn id="108" dur="2000" fill="hold"/>
                                        <p:tgtEl>
                                          <p:spTgt spid="1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6.13E-007 L -1.00799 0.71108 E">
                                      <p:cBhvr>
                                        <p:cTn id="112" dur="2000" fill="hold"/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4.73514E-006 L -0.77952 -0.13741 E">
                                      <p:cBhvr>
                                        <p:cTn id="116" dur="2000" fill="hold"/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b7"/>
                </a:solidFill>
                <a:latin typeface="Arial Black"/>
              </a:rPr>
              <a:t>     </a:t>
            </a:r>
            <a:r>
              <a:rPr b="1" lang="uk-UA" sz="4400" spc="-1" strike="noStrike">
                <a:solidFill>
                  <a:srgbClr val="ffffb7"/>
                </a:solidFill>
                <a:latin typeface="Arial Black"/>
              </a:rPr>
              <a:t>Загубилось число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2" name=""/>
          <p:cNvSpPr/>
          <p:nvPr/>
        </p:nvSpPr>
        <p:spPr>
          <a:xfrm>
            <a:off x="250920" y="1484280"/>
            <a:ext cx="3816360" cy="10796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1" lang="uk-UA" sz="7200" spc="-1" strike="noStrike">
                <a:solidFill>
                  <a:srgbClr val="ffffff"/>
                </a:solidFill>
                <a:latin typeface="Arial"/>
              </a:rPr>
              <a:t> х 2 =</a:t>
            </a: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11280" y="2708280"/>
            <a:ext cx="3816360" cy="10796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1" lang="uk-UA" sz="7200" spc="-1" strike="noStrike">
                <a:solidFill>
                  <a:srgbClr val="ffffff"/>
                </a:solidFill>
                <a:latin typeface="Arial"/>
              </a:rPr>
              <a:t> х 3 =</a:t>
            </a: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18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4000" y="3933720"/>
            <a:ext cx="3816360" cy="10796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1" lang="uk-UA" sz="7200" spc="-1" strike="noStrike">
                <a:solidFill>
                  <a:srgbClr val="ffffff"/>
                </a:solidFill>
                <a:latin typeface="Arial"/>
              </a:rPr>
              <a:t> х 4 =</a:t>
            </a: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24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39640" y="5157720"/>
            <a:ext cx="3816360" cy="10796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1" lang="uk-UA" sz="6600" spc="-1" strike="noStrike">
                <a:solidFill>
                  <a:srgbClr val="ffffff"/>
                </a:solidFill>
                <a:latin typeface="Arial"/>
              </a:rPr>
              <a:t> х 5 =</a:t>
            </a: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uk-UA" sz="66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716360" y="1484280"/>
            <a:ext cx="3816360" cy="10796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1" lang="uk-UA" sz="6600" spc="-1" strike="noStrike">
                <a:solidFill>
                  <a:srgbClr val="ffffff"/>
                </a:solidFill>
                <a:latin typeface="Arial"/>
              </a:rPr>
              <a:t> х 6 = </a:t>
            </a: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36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03640" y="2781360"/>
            <a:ext cx="3816360" cy="107928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1" lang="uk-UA" sz="6600" spc="-1" strike="noStrike">
                <a:solidFill>
                  <a:srgbClr val="ffffff"/>
                </a:solidFill>
                <a:latin typeface="Arial"/>
              </a:rPr>
              <a:t> х 7 = </a:t>
            </a: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42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572000" y="4005360"/>
            <a:ext cx="3816360" cy="107928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1" lang="uk-UA" sz="6600" spc="-1" strike="noStrike">
                <a:solidFill>
                  <a:srgbClr val="ffffff"/>
                </a:solidFill>
                <a:latin typeface="Arial"/>
              </a:rPr>
              <a:t> х 8 = </a:t>
            </a: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48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932360" y="5229360"/>
            <a:ext cx="3816360" cy="107928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1" lang="uk-UA" sz="6600" spc="-1" strike="noStrike">
                <a:solidFill>
                  <a:srgbClr val="ffffff"/>
                </a:solidFill>
                <a:latin typeface="Arial"/>
              </a:rPr>
              <a:t> х 9 = </a:t>
            </a: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54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692360" y="155736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050920" y="278136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763640" y="400536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3640" y="522936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867280" y="155736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227640" y="285264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96000" y="414972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156360" y="530064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699000" y="6238080"/>
            <a:ext cx="5433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Вчитель початкових класів Марківської ЗОШ І-ІІ ст. № 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Биканова Наталія Леонідівн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2" dur="200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200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8" dur="200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200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4" dur="200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200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0" dur="20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20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6" dur="20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20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2" dur="200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200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8" dur="200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200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4" dur="20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20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b7"/>
                </a:solidFill>
                <a:latin typeface="Arial Black"/>
              </a:rPr>
              <a:t>     </a:t>
            </a:r>
            <a:r>
              <a:rPr b="1" lang="uk-UA" sz="4400" spc="-1" strike="noStrike">
                <a:solidFill>
                  <a:srgbClr val="ffffb7"/>
                </a:solidFill>
                <a:latin typeface="Arial Black"/>
              </a:rPr>
              <a:t>Загубилось число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0" name=""/>
          <p:cNvSpPr/>
          <p:nvPr/>
        </p:nvSpPr>
        <p:spPr>
          <a:xfrm>
            <a:off x="4932360" y="3933720"/>
            <a:ext cx="3816360" cy="10796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1" lang="uk-UA" sz="7200" spc="-1" strike="noStrike">
                <a:solidFill>
                  <a:srgbClr val="ffffff"/>
                </a:solidFill>
                <a:latin typeface="Arial"/>
              </a:rPr>
              <a:t> х 2 =</a:t>
            </a: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356000" y="1341360"/>
            <a:ext cx="3816360" cy="10796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1" lang="uk-UA" sz="7200" spc="-1" strike="noStrike">
                <a:solidFill>
                  <a:srgbClr val="ffffff"/>
                </a:solidFill>
                <a:latin typeface="Arial"/>
              </a:rPr>
              <a:t> х 3 =</a:t>
            </a: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18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042920" y="5157720"/>
            <a:ext cx="3816360" cy="10796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1" lang="uk-UA" sz="7200" spc="-1" strike="noStrike">
                <a:solidFill>
                  <a:srgbClr val="ffffff"/>
                </a:solidFill>
                <a:latin typeface="Arial"/>
              </a:rPr>
              <a:t> х 4 =</a:t>
            </a: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24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327640" y="5157720"/>
            <a:ext cx="3816360" cy="10796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1" lang="uk-UA" sz="6600" spc="-1" strike="noStrike">
                <a:solidFill>
                  <a:srgbClr val="ffffff"/>
                </a:solidFill>
                <a:latin typeface="Arial"/>
              </a:rPr>
              <a:t> х 5 = </a:t>
            </a: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uk-UA" sz="66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95280" y="2637000"/>
            <a:ext cx="3816360" cy="107928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1" lang="uk-UA" sz="6600" spc="-1" strike="noStrike">
                <a:solidFill>
                  <a:srgbClr val="ffffff"/>
                </a:solidFill>
                <a:latin typeface="Arial"/>
              </a:rPr>
              <a:t> х 6 = </a:t>
            </a: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36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43280" y="2708280"/>
            <a:ext cx="3816360" cy="10796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1" lang="uk-UA" sz="6600" spc="-1" strike="noStrike">
                <a:solidFill>
                  <a:srgbClr val="ffffff"/>
                </a:solidFill>
                <a:latin typeface="Arial"/>
              </a:rPr>
              <a:t> х 7 = </a:t>
            </a: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42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08000" y="1341360"/>
            <a:ext cx="3816360" cy="10796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1" lang="uk-UA" sz="6600" spc="-1" strike="noStrike">
                <a:solidFill>
                  <a:srgbClr val="ffffff"/>
                </a:solidFill>
                <a:latin typeface="Arial"/>
              </a:rPr>
              <a:t> х 8 = </a:t>
            </a: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48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84360" y="3860640"/>
            <a:ext cx="3816360" cy="10796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1" lang="uk-UA" sz="6600" spc="-1" strike="noStrike">
                <a:solidFill>
                  <a:srgbClr val="ffffff"/>
                </a:solidFill>
                <a:latin typeface="Arial"/>
              </a:rPr>
              <a:t> х 9 = </a:t>
            </a: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54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403280" y="141300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619280" y="270828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908000" y="393372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40000" y="522936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724360" y="141300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867280" y="285264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227640" y="400536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16720" y="522936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575160" y="6309360"/>
            <a:ext cx="5433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Вчитель початкових класів Марківської ЗОШ І-ІІ ст. № 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Биканова Наталія Леонідівн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7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7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8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8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92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9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0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0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2-20T13:14:01Z</dcterms:created>
  <dc:creator>Admin</dc:creator>
  <dc:description/>
  <dc:language>en-US</dc:language>
  <cp:lastModifiedBy>Admin</cp:lastModifiedBy>
  <dcterms:modified xsi:type="dcterms:W3CDTF">2017-02-20T17:38:25Z</dcterms:modified>
  <cp:revision>6</cp:revision>
  <dc:subject/>
  <dc:title>Тренажер </dc:title>
</cp:coreProperties>
</file>