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978-6044-4CD2-8149-F00A79EA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865D-7164-42BF-9CC0-AC6D6FEA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17B3-DE59-486C-B74E-9A538B3B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7B9-372D-40B8-93F8-082FDB39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871D-38BA-41FC-966D-DE681E4A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887B-7C16-44D2-9EEB-E36E4B8C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31A6-388B-4D6C-A6C0-3C0FC2B4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584E-AC0A-4895-9E5E-25C7258A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C2E5-CB53-4941-9C2A-2DEEF1DB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063E-B7F2-49FE-9C0B-11B7C68E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2D2A-DE4F-45F9-9609-80428EF3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F27-2B96-4387-AD3C-F1BD5B72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7A62-76C6-47BC-8CB5-D2C71E88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E87B-759F-40FB-9FF3-B354EE2A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5ED5-2D8F-4720-B9E8-98DC5B17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88BA-B0F9-4E52-AA0F-2F79A2D0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4BE2-C6BC-4131-B910-1111F6F8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2E3-C5BF-4D9A-A9DA-FBA7DC37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FD34-DFB5-46DE-97D0-3961A0A0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5B7-95C1-44EC-90B3-B176BEB6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5848-B47A-474C-ACE0-294C4210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2A8-8A46-402D-9064-48B739D5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923-7787-48A8-8127-033E9BFB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D0E5-FA04-4E08-971D-D1A6B0A5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474F-EEA3-4F34-8202-E985E492A0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7356-2BA5-40F5-8198-69CFCC880D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b7"/>
                </a:solidFill>
                <a:latin typeface="Arial Black"/>
              </a:rPr>
              <a:t>Тренажер 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6000" y="256536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Вивчаємо таблицю множення числа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5229360"/>
            <a:ext cx="648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Дружно всі читайте</a:t>
            </a:r>
            <a:br>
              <a:rPr sz="4400"/>
            </a:b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і відповідайт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338472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2х2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2х3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2х4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2х5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612360" y="206064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325080" y="537372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540720" y="4149720"/>
            <a:ext cx="6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612360" y="306864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2205000"/>
            <a:ext cx="3384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2х6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2х7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2х8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2х9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060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612360" y="3284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56720" y="443700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56720" y="575928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6276960"/>
            <a:ext cx="62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12 0.00393 L -0.75989 -0.01713 E">
                                      <p:cBhvr>
                                        <p:cTn id="2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-0.00255 L -0.76771 -0.01297 E">
                                      <p:cBhvr>
                                        <p:cTn id="2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0.01828 L -0.75208 -0.00278 E">
                                      <p:cBhvr>
                                        <p:cTn id="3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-0.74809 -0.01713 E">
                                      <p:cBhvr>
                                        <p:cTn id="3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444E-006 L -0.34635 0.01435 E">
                                      <p:cBhvr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222E-006 L -0.34635 -0.00648 E">
                                      <p:cBhvr>
                                        <p:cTn id="4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3333E-006 L -0.36215 -0.00648 E">
                                      <p:cBhvr>
                                        <p:cTn id="4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6215 -0.0419 E">
                                      <p:cBhvr>
                                        <p:cTn id="50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Хто перший?!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9325080" y="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2х9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72720" y="5589720"/>
            <a:ext cx="12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0" y="404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2х2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04360" y="522936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468000" y="47628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2х8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72720" y="501336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25080" y="1268280"/>
            <a:ext cx="23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2х3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117080" y="3789360"/>
            <a:ext cx="86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0" y="1413000"/>
            <a:ext cx="24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2х7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397080" y="292428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2000" y="206064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2х4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36360" y="414972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96360" y="249228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2х6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72720" y="357336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0" y="26028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2х5=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325080" y="587700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22560" y="6276960"/>
            <a:ext cx="61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99491E-006 L -0.40156 0.79089 E">
                                      <p:cBhvr>
                                        <p:cTn id="5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67962E-006 L -0.24983 -0.02359 E">
                                      <p:cBhvr>
                                        <p:cTn id="6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8.09623E-007 L -1.00399 0.1758 E">
                                      <p:cBhvr>
                                        <p:cTn id="6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63868E-006 L -0.89375 -0.53621 E">
                                      <p:cBhvr>
                                        <p:cTn id="6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7513E-007 L -0.4132 0.54314 E">
                                      <p:cBhvr>
                                        <p:cTn id="7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7696E-006 L -0.2441 -0.12214 E">
                                      <p:cBhvr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6.52325E-007 L -1.02483 0.2179 E">
                                      <p:cBhvr>
                                        <p:cTn id="8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64238E-006 L -0.85834 -0.15846 E">
                                      <p:cBhvr>
                                        <p:cTn id="84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55702E-007 L -0.38177 0.25977 E">
                                      <p:cBhvr>
                                        <p:cTn id="8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5663E-006 L -0.17136 0.02105 E">
                                      <p:cBhvr>
                                        <p:cTn id="9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55216E-006 L -1.01962 0.25977 E">
                                      <p:cBhvr>
                                        <p:cTn id="9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61925E-006 L -0.92916 -0.06246 E">
                                      <p:cBhvr>
                                        <p:cTn id="10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8314E-006 L -0.40938 -0.06547 E">
                                      <p:cBhvr>
                                        <p:cTn id="10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78973E-006 L -0.2441 -0.223 E">
                                      <p:cBhvr>
                                        <p:cTn id="10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6.13E-007 L -1.00799 0.71108 E">
                                      <p:cBhvr>
                                        <p:cTn id="11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73514E-006 L -0.77952 -0.13741 E">
                                      <p:cBhvr>
                                        <p:cTn id="11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агубилось чис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484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2 х 2 =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2708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2 х 3 = 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3933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2 х 4 = 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5157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 х 5 = 1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1484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 х 6 = 1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2781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 х 7 = 1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4005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 х 8 = 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5229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 х 9 = 1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1557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2781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4005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522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557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27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4149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6360" y="5300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8000" y="6276960"/>
            <a:ext cx="563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агубилось чис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3933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2 х 2 =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34136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2 х 3 = 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5229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2 х 4 = 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515772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 х 5 = 1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263700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 х 6 = 1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270828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 х 7 = 1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1341360"/>
            <a:ext cx="381636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 х 8 = 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4005360"/>
            <a:ext cx="381636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2 х 9 = 1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1413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2708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4076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56000" y="5300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24360" y="1413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2781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16720" y="4005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88000" y="522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02000" y="6276960"/>
            <a:ext cx="574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читель початкових класів Марківської ЗОШ І-ІІ ст. №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Биканова Наталія Леонід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0T13:14:01Z</dcterms:created>
  <dc:creator>Admin</dc:creator>
  <dc:description/>
  <dc:language>en-US</dc:language>
  <cp:lastModifiedBy>Admin</cp:lastModifiedBy>
  <dcterms:modified xsi:type="dcterms:W3CDTF">2017-02-20T17:28:43Z</dcterms:modified>
  <cp:revision>6</cp:revision>
  <dc:subject/>
  <dc:title>Тренажер </dc:title>
</cp:coreProperties>
</file>