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A99-C334-450C-91F9-ED35EBA3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CBE-7045-487D-8E0C-68E6763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EB2-01C1-4B04-A987-86AB306A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B57-675A-44C4-8A82-5F8491BD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5B88-564E-41E7-8984-EB9EBEF1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06C0-0CED-4522-9952-36939DE3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B8C-63E6-4EA9-B6DB-B31014A1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FFF-CC45-434D-A43C-1A409D3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5EB9-E38A-4617-AC89-294B139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A52C-8691-45DA-83C8-317397D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902-E223-440B-9094-4FB3541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B77-1F03-4461-A2B1-A784939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CE4-2203-487F-9E4C-80291A5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595-5C23-4A61-A1D6-6B1F167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444A-676D-4D3E-86F3-506F039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30EA-38B0-48B5-B843-3DE8DB12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F35-EAD4-42BC-9A07-0480AA24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3AD-0909-4523-96FD-D7B640F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9F9-AA8F-4D4C-BBEE-E1213868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7BE-2059-4095-B830-00344223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144-9B57-4ED2-8076-AE769B61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62A-F585-4AEE-AE21-78DAE53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F33-9E40-4573-A672-F17356D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532-ECDC-47FA-BD9D-6749B57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8FE-DC1D-48FA-A034-3E40356ED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6149-099F-4553-88A8-78322A81C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1480" y="580500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85440" y="2060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56720" y="3284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7516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76000" y="5300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013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6360" y="414972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189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5080" y="5877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96E-006 L -0.2441 -0.1221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7516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916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36:45Z</dcterms:modified>
  <cp:revision>6</cp:revision>
  <dc:subject/>
  <dc:title>Тренажер </dc:title>
</cp:coreProperties>
</file>